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B09E6A-8A3E-4EE9-BE1A-3486AB01E7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B2E9FF12-4C0F-474B-B3B3-60EB612263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DB00D75C-DC78-4C0D-B70E-B746920951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0BE378C4-5AE5-4430-B04F-E2BA053BA8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EF41372-F2B1-4363-9E11-F4C56DBFBA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8C09752F-2377-47C8-ABFA-ACE1C5C9D5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4726B671-33A1-405E-BF0F-FF3F755859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250D7593-EF70-446B-8967-9D78D93D7F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0E1489C6-ECF5-43E3-93B2-7283D8CFC0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DBE731F1-E683-444C-8000-9FED8436C6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97FBC66B-7F52-4986-A5FA-C2134914A8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F78D50F-C1B1-4C71-9C5E-009A25A756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C8605-331B-4789-8C06-4A2806649C3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十章 </a:t>
            </a:r>
            <a:br>
              <a:rPr sz="4400"/>
            </a:br>
            <a:r>
              <a:rPr b="1" lang="zh-CN" sz="4400" spc="-1" strike="noStrike">
                <a:solidFill>
                  <a:srgbClr val="ffffff"/>
                </a:solidFill>
                <a:latin typeface="黑体"/>
              </a:rPr>
              <a:t>护理相关文件记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包括长期医嘱单和临时医嘱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病历及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包括查房记录、病情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门诊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死亡报告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记录或死亡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3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相关文件的书写</a:t>
            </a:r>
            <a:endParaRPr b="1" lang="en-US" sz="4400" spc="-1" strike="noStrike">
              <a:solidFill>
                <a:srgbClr val="ffffff"/>
              </a:solidFill>
              <a:latin typeface="黑体"/>
            </a:endParaRPr>
          </a:p>
        </p:txBody>
      </p:sp>
      <p:sp>
        <p:nvSpPr>
          <p:cNvPr id="132"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记录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交班报告</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a:t>
            </a: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脉搏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底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电子体温单的生成</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日期</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日数</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后日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0</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之间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的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从</a:t>
            </a:r>
            <a:r>
              <a:rPr b="1" lang="en-US" sz="2400" spc="-1" strike="noStrike">
                <a:solidFill>
                  <a:srgbClr val="000000"/>
                </a:solidFill>
                <a:latin typeface="宋体"/>
              </a:rPr>
              <a:t>35</a:t>
            </a:r>
            <a:r>
              <a:rPr b="1" lang="zh-CN" sz="2400" spc="-1" strike="noStrike">
                <a:solidFill>
                  <a:srgbClr val="000000"/>
                </a:solidFill>
                <a:latin typeface="宋体"/>
              </a:rPr>
              <a:t>～</a:t>
            </a:r>
            <a:r>
              <a:rPr b="1" lang="en-US" sz="2400" spc="-1" strike="noStrike">
                <a:solidFill>
                  <a:srgbClr val="000000"/>
                </a:solidFill>
                <a:latin typeface="宋体"/>
              </a:rPr>
              <a:t>42</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1</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0.2</a:t>
            </a:r>
            <a:r>
              <a:rPr b="1" lang="zh-CN" sz="2400" spc="-1" strike="noStrike">
                <a:solidFill>
                  <a:srgbClr val="000000"/>
                </a:solidFill>
                <a:latin typeface="宋体"/>
              </a:rPr>
              <a:t>℃</a:t>
            </a:r>
            <a:r>
              <a:rPr b="1" lang="zh-CN" sz="2400" spc="-1" strike="noStrike">
                <a:solidFill>
                  <a:srgbClr val="000000"/>
                </a:solidFill>
                <a:latin typeface="宋体"/>
              </a:rPr>
              <a:t>，在</a:t>
            </a:r>
            <a:r>
              <a:rPr b="1" lang="en-US" sz="2400" spc="-1" strike="noStrike">
                <a:solidFill>
                  <a:srgbClr val="000000"/>
                </a:solidFill>
                <a:latin typeface="宋体"/>
              </a:rPr>
              <a:t>37</a:t>
            </a:r>
            <a:r>
              <a:rPr b="1" lang="zh-CN" sz="2400" spc="-1" strike="noStrike">
                <a:solidFill>
                  <a:srgbClr val="000000"/>
                </a:solidFill>
                <a:latin typeface="宋体"/>
              </a:rPr>
              <a:t>℃</a:t>
            </a:r>
            <a:r>
              <a:rPr b="1" lang="zh-CN" sz="2400" spc="-1" strike="noStrike">
                <a:solidFill>
                  <a:srgbClr val="000000"/>
                </a:solidFill>
                <a:latin typeface="宋体"/>
              </a:rPr>
              <a:t>处以红横线明显标出，方便辨识。</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理降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不升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密切观察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未测或拒测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病案管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相关文件的书写</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率从</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1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2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4</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在</a:t>
            </a:r>
            <a:r>
              <a:rPr b="1" lang="en-US" sz="2400" spc="-1" strike="noStrike">
                <a:solidFill>
                  <a:srgbClr val="000000"/>
                </a:solidFill>
                <a:latin typeface="宋体"/>
              </a:rPr>
              <a:t>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处以红横线明显标出。每次测得的数值在相应坐标点上标出，脉率用红“</a:t>
            </a:r>
            <a:r>
              <a:rPr b="1" lang="zh-CN" sz="2400" spc="-1" strike="noStrike">
                <a:solidFill>
                  <a:srgbClr val="ff0000"/>
                </a:solidFill>
                <a:latin typeface="宋体"/>
              </a:rPr>
              <a:t>●</a:t>
            </a:r>
            <a:r>
              <a:rPr b="1" lang="zh-CN" sz="2400" spc="-1" strike="noStrike">
                <a:solidFill>
                  <a:srgbClr val="000000"/>
                </a:solidFill>
                <a:latin typeface="宋体"/>
              </a:rPr>
              <a:t>”表示。</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与体温绘制点重叠的处理</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短绌的记录</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未测、拒测或需多次测量脉搏的处理方法同体温。</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底栏</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血压</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量和出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便</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重</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身高</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格栏</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包括日期、时间、护理常规、护理级别、饮食、体位、药物（名称、剂量、用法、时间等）、各种检查、治疗、术前准备以及医生、护士的签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备用医嘱</a:t>
            </a:r>
            <a:endParaRPr b="1" lang="en-US" sz="28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备用医嘱</a:t>
            </a:r>
            <a:endParaRPr b="1" lang="en-US" sz="24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临时备用医嘱</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原则：先急后缓、先临时后长期、先执行后抄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开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整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转科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院医嘱的处理</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新开医嘱的处理</a:t>
            </a:r>
            <a:endParaRPr b="1" lang="en-US" sz="32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备用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备用医嘱</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审核医嘱 </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打印表单和医嘱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6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必须经医生签名后方可有效。</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一般情况下不执行口头医嘱。</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在处理医嘱前有责任核查医嘱的正确性，对有疑问的医嘱应及时与医生沟通，核查清楚。</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凡需要下一班执行的临时医嘱和临时备用医嘱要交班，并应在交班记录上注明。</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应每班、每日、每周查对，每次查对后应注明日期、时间并签查对者全名。</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3534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文件管理的要求。</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出医嘱处理的基本原则。</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理文件记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比较长期医嘱、临时医嘱、备用医嘱的不同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医嘱处理的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内容</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方法及要求</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应及时、准确并签全名，记录时间应具体到分钟</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出入量时，除填写名称和量外，还应将颜色、性状等记录于病情观察栏内。</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观察栏内清晰完整的记录患者病情变化、治疗护理措施及效果。</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a:t>
            </a:r>
            <a:r>
              <a:rPr b="1" lang="en-US" sz="2800" spc="-1" strike="noStrike">
                <a:solidFill>
                  <a:srgbClr val="000000"/>
                </a:solidFill>
                <a:latin typeface="宋体"/>
              </a:rPr>
              <a:t>12</a:t>
            </a:r>
            <a:r>
              <a:rPr b="1" lang="zh-CN" sz="2800" spc="-1" strike="noStrike">
                <a:solidFill>
                  <a:srgbClr val="000000"/>
                </a:solidFill>
                <a:latin typeface="宋体"/>
              </a:rPr>
              <a:t>小时、</a:t>
            </a:r>
            <a:r>
              <a:rPr b="1" lang="en-US" sz="2800" spc="-1" strike="noStrike">
                <a:solidFill>
                  <a:srgbClr val="000000"/>
                </a:solidFill>
                <a:latin typeface="宋体"/>
              </a:rPr>
              <a:t>24</a:t>
            </a:r>
            <a:r>
              <a:rPr b="1" lang="zh-CN" sz="2800" spc="-1" strike="noStrike">
                <a:solidFill>
                  <a:srgbClr val="000000"/>
                </a:solidFill>
                <a:latin typeface="宋体"/>
              </a:rPr>
              <a:t>小时将总入量、总出量、病情、治疗、护理进行小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计划单</a:t>
            </a:r>
            <a:endParaRPr b="1" lang="en-US" sz="4400" spc="-1" strike="noStrike">
              <a:solidFill>
                <a:srgbClr val="ffffff"/>
              </a:solidFill>
              <a:latin typeface="黑体"/>
            </a:endParaRPr>
          </a:p>
        </p:txBody>
      </p:sp>
      <p:sp>
        <p:nvSpPr>
          <p:cNvPr id="16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是护士按照护理程序的工作方法对患者实施整体护理的具体方案，包括护理问题</a:t>
            </a:r>
            <a:r>
              <a:rPr b="1" lang="en-US" sz="3200" spc="-1" strike="noStrike">
                <a:solidFill>
                  <a:srgbClr val="000000"/>
                </a:solidFill>
                <a:latin typeface="宋体"/>
              </a:rPr>
              <a:t>/</a:t>
            </a:r>
            <a:r>
              <a:rPr b="1" lang="zh-CN" sz="3200" spc="-1" strike="noStrike">
                <a:solidFill>
                  <a:srgbClr val="000000"/>
                </a:solidFill>
                <a:latin typeface="宋体"/>
              </a:rPr>
              <a:t>诊断、预期目标、护理措施和效果评价</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6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区患者总数、入院、出院、转出、转入、手术、分娩、病危、死亡人数</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出、死亡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入院和转入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危重患者、有异常情况及做特殊检查治疗的患者情况 </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孕产妇</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手术、预检查和待行特殊治疗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眉栏项目用蓝黑墨水笔书写，日间用蓝黑墨水笔书写，夜间用红墨水笔书写（也有医疗机构采用全部蓝墨水笔书写）</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顺序书写报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6" name=""/>
          <p:cNvSpPr txBox="1"/>
          <p:nvPr/>
        </p:nvSpPr>
        <p:spPr>
          <a:xfrm>
            <a:off x="323640" y="126792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新入院、转入、手术、分娩、危重患者，在诊断下面用红笔分别注明“新”“转入”“手术”“分娩”“危”或“※”</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书写内容应全面、客观、真实、简明扼要、重点突出；字迹清楚、不随意涂改；应在经常巡视病区和了解病情的基础上于交班前</a:t>
            </a:r>
            <a:r>
              <a:rPr b="1" lang="en-US" sz="2800" spc="-1" strike="noStrike">
                <a:solidFill>
                  <a:srgbClr val="000000"/>
                </a:solidFill>
                <a:latin typeface="宋体"/>
              </a:rPr>
              <a:t>1</a:t>
            </a:r>
            <a:r>
              <a:rPr b="1" lang="zh-CN" sz="2800" spc="-1" strike="noStrike">
                <a:solidFill>
                  <a:srgbClr val="000000"/>
                </a:solidFill>
                <a:latin typeface="宋体"/>
              </a:rPr>
              <a:t>小时书写，并签全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7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及时、准确、全面的反映患者的病情变化和心理状态，避免重复医疗记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现护理程序五个步骤的内容，反映护理质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简便，符合护理发展需要，具有实用性和可操作性。</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法律依据作用，有保存和研究的价值。</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要求进行护理相关文件、护理记录单的书写。</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进行各类医嘱的处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首程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患者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诊断项目表</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计划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下列有关医嘱种类不正确的描述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临时医嘱一般只执行一次</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长期医嘱有效时间在</a:t>
            </a:r>
            <a:r>
              <a:rPr b="0" lang="en-US" sz="2800" spc="-1" strike="noStrike">
                <a:solidFill>
                  <a:srgbClr val="000000"/>
                </a:solidFill>
                <a:latin typeface="宋体"/>
              </a:rPr>
              <a:t>24</a:t>
            </a:r>
            <a:r>
              <a:rPr b="0" lang="zh-CN" sz="2800" spc="-1" strike="noStrike">
                <a:solidFill>
                  <a:srgbClr val="000000"/>
                </a:solidFill>
                <a:latin typeface="宋体"/>
              </a:rPr>
              <a:t>小时以上</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长期医嘱在医生注明停止时间后失效</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临时备用医嘱有效时间在</a:t>
            </a:r>
            <a:r>
              <a:rPr b="0" lang="en-US" sz="2800" spc="-1" strike="noStrike">
                <a:solidFill>
                  <a:srgbClr val="000000"/>
                </a:solidFill>
                <a:latin typeface="宋体"/>
              </a:rPr>
              <a:t>24</a:t>
            </a:r>
            <a:r>
              <a:rPr b="0" lang="zh-CN" sz="2800" spc="-1" strike="noStrike">
                <a:solidFill>
                  <a:srgbClr val="000000"/>
                </a:solidFill>
                <a:latin typeface="宋体"/>
              </a:rPr>
              <a:t>小时以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长期备用医嘱须由医生注明停止时间后方为失效</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下列属于临时医嘱的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病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一级护理</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氧气吸入</a:t>
            </a:r>
            <a:r>
              <a:rPr b="0" lang="en-US" sz="2800" spc="-1" strike="noStrike">
                <a:solidFill>
                  <a:srgbClr val="000000"/>
                </a:solidFill>
                <a:latin typeface="宋体"/>
              </a:rPr>
              <a:t>prn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粪便常规</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 </a:t>
            </a:r>
            <a:r>
              <a:rPr b="0" lang="zh-CN" sz="2800" spc="-1" strike="noStrike">
                <a:solidFill>
                  <a:srgbClr val="000000"/>
                </a:solidFill>
                <a:latin typeface="宋体"/>
              </a:rPr>
              <a:t>书写病区交班报告时，首先应记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手术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新入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出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病情变化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 </a:t>
            </a:r>
            <a:r>
              <a:rPr b="0" lang="zh-CN" sz="2800" spc="-1" strike="noStrike">
                <a:solidFill>
                  <a:srgbClr val="000000"/>
                </a:solidFill>
                <a:latin typeface="宋体"/>
              </a:rPr>
              <a:t>关于住院病案的保管，下列哪项错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放于病案柜中</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任何人不能擅自携出病室</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患者和家属可以随时翻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必须保持清洁、完整</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防止拆散、丢失 </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 </a:t>
            </a:r>
            <a:r>
              <a:rPr b="0" lang="zh-CN" sz="2800" spc="-1" strike="noStrike">
                <a:solidFill>
                  <a:srgbClr val="000000"/>
                </a:solidFill>
                <a:latin typeface="宋体"/>
              </a:rPr>
              <a:t>护士处理医嘱时，首先应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阅读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处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转抄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整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核对医嘱</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危重护理记录单适用于</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大手术后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一般瘫痪患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行特殊治疗的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需要严密观察病情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护理病历包括</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首程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住院患者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护理记录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护理计划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病案管理</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意义</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原则</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管理要求</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例排列顺序</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记录的意义</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沟通信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诊疗和护理计划制订的客观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质量评价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教学与科研资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法律依据</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记录的原则</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及时</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准确</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客观</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完整</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简要</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18"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各种护理相关文件按规定放置，记录或使用后必须放回原处。</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保持各种护理相关文件的清洁、整齐、完整，防止污染、破损、拆散和丢失。</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禁任何人涂改、伪造、隐匿、销毁、抢夺及窃取护理相关文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除对患者实施医护活动的专业人员及医疗服务质量监控人员外，其他任何机构和个人不得擅自查阅患者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20"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教学、科研需要查阅护理相关文件时，需经医疗机构相关部门同意，阅后立即归还，不得泄露患者隐私。</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及其代理人有权借阅或复印病历，但必须按规定履行申请手续并获得批准。</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医疗活动需要将住院病历或复印件带离病区时，应指定专人负责携带与保管。</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相关文件应妥善保存。</a:t>
            </a:r>
            <a:endParaRPr b="1" lang="en-US" sz="28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历送病案室长期保存，一般不少于</a:t>
            </a:r>
            <a:r>
              <a:rPr b="1" lang="en-US" sz="2400" spc="-1" strike="noStrike">
                <a:solidFill>
                  <a:srgbClr val="000000"/>
                </a:solidFill>
                <a:latin typeface="宋体"/>
              </a:rPr>
              <a:t>30</a:t>
            </a:r>
            <a:r>
              <a:rPr b="1" lang="zh-CN" sz="2400" spc="-1" strike="noStrike">
                <a:solidFill>
                  <a:srgbClr val="000000"/>
                </a:solidFill>
                <a:latin typeface="宋体"/>
              </a:rPr>
              <a:t>年。</a:t>
            </a:r>
            <a:endParaRPr b="1" lang="en-US" sz="24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区交班报告保存</a:t>
            </a:r>
            <a:r>
              <a:rPr b="1" lang="en-US" sz="2400" spc="-1" strike="noStrike">
                <a:solidFill>
                  <a:srgbClr val="000000"/>
                </a:solidFill>
                <a:latin typeface="宋体"/>
              </a:rPr>
              <a:t>1</a:t>
            </a:r>
            <a:r>
              <a:rPr b="1" lang="zh-CN" sz="2400" spc="-1" strike="noStrike">
                <a:solidFill>
                  <a:srgbClr val="000000"/>
                </a:solidFill>
                <a:latin typeface="宋体"/>
              </a:rPr>
              <a:t>年，以备查阅。</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46:40Z</dcterms:modified>
  <cp:revision>134</cp:revision>
  <dc:subject/>
  <dc:title>内科护理学</dc:title>
</cp:coreProperties>
</file>